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37C-7473-495D-8A1F-F6C72712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293-8836-4EF4-B159-00BA3BD1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B72-4DE1-477E-BF79-0871F435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153-2320-4C38-AF1D-F5A7C03B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B67-9935-42EC-AEB8-4BFBDD7D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324-7817-4FAF-B1D2-8E602B06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FD8-6EF6-4927-9032-A5B6244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CE8-DFFE-45E4-B9ED-72321C54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E5C-02FC-435F-83CC-06D48DB0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5FD-A8C1-4EAD-95A3-61F9280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146-AAA9-44AC-86C1-DBEEABD7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9FC-ABE2-4777-A31B-ACDFC44A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1299-8522-4216-B4E4-B0D7904AD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ilk_rout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ILK R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76520"/>
            <a:ext cx="69343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15328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lk Road came about becaus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ople wanted sil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hi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place that had silk.  Since silk w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ca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was expensive an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high demand.  Traders or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erch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nted to make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rof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ir expeditions.  In order to make money, merchants had to sell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 a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igh pr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over the cost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vel, transportation, tax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d 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Along the Silk Road towns became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de cen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wn bazaars the West trade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gold, grapes, pomegranates, wool rug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lored glass, and green and white ja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On the other hand,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d back to the Wes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k, gunpow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aper, compasses, and bambo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The Si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went from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hang’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hina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nt all the way west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editerranean Se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914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93760"/>
            <a:ext cx="876312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rav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roups of merchants and government officials, made their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Silk Road.  They use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m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arr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goo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 the jour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they coul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aul large loads and needed little w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Th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vans faced many hardships on their trading journeys.  Along the Si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they would encounter many possible setbacks or problems, such a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weather – sandstorms, cold, rain, etc., terrain – deserts, mountains, etc.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ttacks from band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Caravans moved from town to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ong the Si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.  In each town, caravans would go to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ravansera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ere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tay, eat, drink, socialize, and l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heir anim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ey visited the baza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with the large amount of tra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k place along the Silk Road, there was als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 diffusion of culture.  Customs, beliefs,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life, and technology from one end of the S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quickly spread to the other end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andstorm"/>
          <p:cNvPicPr/>
          <p:nvPr/>
        </p:nvPicPr>
        <p:blipFill>
          <a:blip r:embed="rId1"/>
          <a:stretch/>
        </p:blipFill>
        <p:spPr>
          <a:xfrm>
            <a:off x="152280" y="3581280"/>
            <a:ext cx="33530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8:27:38Z</dcterms:created>
  <dc:creator>gehadde</dc:creator>
  <dc:description/>
  <dc:language>en-US</dc:language>
  <cp:lastModifiedBy>gehadde</cp:lastModifiedBy>
  <dcterms:modified xsi:type="dcterms:W3CDTF">2012-03-23T13:21:52Z</dcterms:modified>
  <cp:revision>14</cp:revision>
  <dc:subject/>
  <dc:title>THE SILK ROAD</dc:title>
</cp:coreProperties>
</file>